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A848-B254-4774-B11C-C282527F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7CB3-EC68-4CA0-90B9-9649E5FC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F19-D6F6-4A42-8F3D-B35942F6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3CE-8C14-4B15-B22D-2A5797B4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2A7-B6AC-401B-B1AE-85098CCC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F28-9690-460E-825C-7AD6B35F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9363-8E36-4EAD-924F-2E54C890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4FD-BA7F-431D-AE4F-6CCADF35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F36-D702-4B57-9864-2774433C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89D-100A-44A6-85D3-EA871E2E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BE1-7157-42ED-BE9F-BF361EA9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CD2-C679-4194-8B65-DE82BC48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322F-B888-46F9-952D-D8784F278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-SB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21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vigating Data E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 ori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types (radio buttons, checkboxes, text fiel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ident and facility data pre-f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ing resident and facilit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che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ying assessm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ed by passing the assessment 1814-byte data string to a library file (DLL) developed for CMS by StepWi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calculated at any time from the RAVEN-SB Management sc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calculated AND stored when user specifies the assessment i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rting Assess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s must have Export Ready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VEN-SB creates the submission files but DOES NOT ACTUALLY SUBMIT them to the National Assessment Collection Datab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ssion process described in next presentation – stay tu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ving of assess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up of RAVEN-SB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king of RAVEN-SB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ing assess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 use of RAVEN-SB libraries (D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VEN-SB Help Desk operated by Iowa Foundation for Medic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1-800-339-9313 from 7AM-7PM Central Time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mail swing_help@ifmc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ing Soon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on Version 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se report bug fixes, enhancement requests to the RAVEN-SB Help De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AVEN-S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ident Assessment Validation and ENtry system for Swing Bed 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oftware!!!  No banners or pop-up a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-based (95 and 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a Version 1.0 release – May 6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 user-friendly tool for entry and storage of Swing Bed assessm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users to manage the facility, resident and assessm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 users to create submission files for transmittal to the National Assessment Collection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uses updated MedQuest data entry engine (previously developed for C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 data management features are similar to those found in RA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VEN-SB contains features developed over the course of 6 RAVEN vers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-SB vs. RA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VEN-SB is a subset of RAVEN – no RAPS, no Section S, no Section U m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ng Bed facilities only use one form for assessments, discharges and re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ion policy – no atte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list” variables do not contain None of the Above as an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PPS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 with Pentium 200 MHz or hig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GA display (800x600 SVGA resolution preferred – avoid scrollba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 MB free disk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MB RAM (32 MB recommen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95, 98, ME, NT, 2000 or 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 the software from CMS web site (www.hcfa.gov/medicare/snfpps_swingbed.ht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zip the installation files to a temporary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Setup.ex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options should be fine in most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ging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user name is SW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password is SW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user names and passwords can be defined in RAVEN-SB if security is a conc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Things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 facilit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 employee (user)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 residen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y p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create RAVEN-SB assess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21:29:18Z</dcterms:created>
  <dc:creator>John Hunter Jackson</dc:creator>
  <dc:description/>
  <dc:language>en-US</dc:language>
  <cp:lastModifiedBy>CMS</cp:lastModifiedBy>
  <dcterms:modified xsi:type="dcterms:W3CDTF">2002-05-29T19:14:45Z</dcterms:modified>
  <cp:revision>6</cp:revision>
  <dc:subject/>
  <dc:title>IRVEN Software</dc:title>
</cp:coreProperties>
</file>